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219320" y="114300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 Java Front-End To CGI/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2362320" y="3048120"/>
            <a:ext cx="63244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unther Birzni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lena 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unther@clark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://www.extropia.com/Script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1778040" cy="1646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1840" y="1905120"/>
            <a:ext cx="8531280" cy="0"/>
          </a:xfrm>
          <a:prstGeom prst="line">
            <a:avLst/>
          </a:prstGeom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07800"/>
            <a:ext cx="0" cy="5940720"/>
          </a:xfrm>
          <a:prstGeom prst="line">
            <a:avLst/>
          </a:prstGeom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JavaCGIBridg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ava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ava applet becomes a truly thin client -- only requires GUI code and GUI logic (JavaCGIBridge class adds ~5k overh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to learn the entire Java class library.  You can get by with AWT (Forms)  and some utility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JavaCGIBridg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Java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ava applet can maintain state between all CGI script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ava applet can cache data retrieved during previous CGI calls eliminating the need to constantly get redundant data from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67080" y="5791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t how do we actually use it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Nuts And Bo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dify CGI/Perl programs to return pars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d JavaCGIBridge class to Java apple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Nuts And Bolts (CGI/Per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ta to be returned should be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p separator (&lt;!--start of data--&gt;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ttom Separator (&lt;!--end of data--&gt;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ipe delimited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Optional) Set up form variable to tell script to send data using separators defined above (javacgibridge=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ample CGI/Perl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code on the next slide shows how a CGI/Perl application would be modified to return sample data for the Java applet if the form variable “javacgibridge” is set to “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ample CGI/Perl Code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3880" y="1905120"/>
            <a:ext cx="6240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# If javacgibridge is on, send data specially formatted 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# java applet, otherwise send regular HTML data to the user’s brow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f ($form_data{“javacgibridge”} eq “on”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int “&lt;!--start of data--&gt;”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# Loop through data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hile (@row_of_data = &amp;getRowOfData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intf(“%s|%s|\n”,@row_of_dat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int “&lt;!--end of data--&gt;”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int “&lt;TABLE&gt;&lt;TR&gt;&lt;TH&gt;Last Name&lt;/TH&gt;&lt;TH&gt;First Name&lt;/TH&gt;&lt;/TR&gt;”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# Loop through data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hile (@row_of_data = &amp;getRowOfData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intf(“&lt;TR&gt;&lt;TD&gt;%s&lt;/TD&gt;&lt;TD&gt;%s&lt;/TD&gt;&lt;/TR&gt;\n”, @row_of_dat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int “&lt;/TABLE&gt;”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Nuts And Bolts (Java Appl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stantiate JavaCGIBridg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t up form variable, form value pairs inside Hash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t up URL by instantiating URL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t parsed data back using the URL and form variable Hashtable as a Vector of Vectors (otherwise known as an array of arrays in Perl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ample Java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code on the next slide calls Address Book search script setting “firstname” and “javacgibridge” HTML form variables.  The records will be returned as a Vector containing all the fields in each record as a Vector of St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ample Java Code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9320" y="2209680"/>
            <a:ext cx="6168960" cy="22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URL u = new URL("http://www.yourdomain.com/cgi-bin/address_query.cgi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JavaCGIBridge jcBridge = new JavaCGIBridg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// firstNameTextField is a text field on a Java applet that the user fil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// in to que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jcBridge.addFormValue(formVars,"firstname",firstNameTextField.getTex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jcBridge.addFormValue(formVars,"javacgibridge", "o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ctor addressBookResults = jcBridge.getParsedData(u,formVar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ressBook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lain CGI/Perl version of the Address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ava Applet with CGI/Perl version of the Address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44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blems with CGI/Perl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blems with Java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lution: combine Java with CGI/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look at some sampl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 example CGI/Perl application enhanced by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Query Screen (Just CGI/Per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1214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Query Results (Just CGI/Per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04760" y="1943280"/>
            <a:ext cx="71596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Java with CGI/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37160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 search data AND modification code on ONE appl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62520" y="1447920"/>
            <a:ext cx="405432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sit http://www.extropia.com/Script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lena Sol CGI/Perl Scripts 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avaCGIBridge class examples and sourc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seph Ryan, Erik Ferla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roblems with CGI/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ML Forms have a minimal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t interactive (JavaScript does not solve the whole prob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nnot be extended n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rd to maintain state between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dundant data frequently needs to be re-retrieved between HTML forms-- need to create fresh interface eac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roblems with Java App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loated Applet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lacing all application code on the applet makes for a huge down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ava is ha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rowser incompat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licated maze of class libraries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roblems with Java App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curity “Sandbox” restricts what applets can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nnot read/write loca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nnot open sockets to non-originating server (RDBMS prob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roblems with Java App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good, easy connectivity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DBC requires lax firewall for talking to DBMS directly or complex middle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MI is not supported by brow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RBA is not supported by all brow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86200" y="56386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t’s look at the solutio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405400" y="5100480"/>
            <a:ext cx="2371680" cy="115236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195720" y="2433600"/>
            <a:ext cx="3133800" cy="61920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avaCGI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Java Front-End To CGI/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710320" y="3652920"/>
            <a:ext cx="1762200" cy="84780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GI/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9800" y="3127320"/>
            <a:ext cx="1292400" cy="45396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5200" y="3652920"/>
            <a:ext cx="1762200" cy="84780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GI/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355920" y="3127320"/>
            <a:ext cx="1216080" cy="45396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00080" y="3652920"/>
            <a:ext cx="1762200" cy="84780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GI/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127320"/>
            <a:ext cx="0" cy="45396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195720" y="1519200"/>
            <a:ext cx="3133800" cy="92376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ava Applet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2438280"/>
            <a:ext cx="31208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95520" y="5100480"/>
            <a:ext cx="2371680" cy="115236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at Fil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4575240"/>
            <a:ext cx="0" cy="45396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4575240"/>
            <a:ext cx="0" cy="45396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JavaCGIBridg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GI/Perl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GI/Perl can provide database connectivity more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ication related “business-rules” are centrally maintained and executed in CGI/Perl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JavaCGIBridg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CGI/Perl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rowsers that don’t support Java can still use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verage existing “legacy” CGI/Perl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ny Internet Service Providers only allow CGI/Perl access (no daem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lena Sol</dc:creator>
  <dc:description/>
  <dc:language>en-US</dc:language>
  <cp:lastModifiedBy>Gunther Birznieks</cp:lastModifiedBy>
  <cp:revision>0</cp:revision>
  <dc:subject/>
  <dc:title>Designing a Web Store  with CGI/Perl</dc:title>
</cp:coreProperties>
</file>